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569-EFA2-49D3-9301-1983BA1A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3DE-F6ED-44F8-BC3A-B866B80A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946-BF2D-472E-82B3-6931EF7A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B10-13E8-44E0-B9A0-B6382DFC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5A5-A9FD-4E30-B607-7A6B176D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840-948B-445E-8F83-5DCCC13E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67D-A3D9-4583-BE91-72533EA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456-5227-42D1-89DE-3EAD9286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ED2-B044-478A-B916-96A5C948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CFB-9612-4F7C-B5FA-6D5BAB6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8F2-34EE-4F17-9490-EBA143A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A4F-6846-4B98-BBAB-DE7AE66D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03DA-7937-43EF-BF86-791C5F5A8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4: Cell Division &amp; Here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14 &amp; Ch. 1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ian Genetics &amp; Chromosomal Basis of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Dominance: Some alleles are dominant &amp; others are reces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: Will always be se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ssive: Only seen if dominant is no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http://rds.yahoo.com/_ylt=A9gnMinCCwNGBzQBBhWjzbkF;_ylu=X3oDMTA4NDgyNWN0BHNlYwNwcm9m/SIG=123esc0sl/EXP=1174691138/**http%3A//www.orthopedic-doctor.com/10.11/hand.jpg"/>
          <p:cNvPicPr/>
          <p:nvPr/>
        </p:nvPicPr>
        <p:blipFill>
          <a:blip r:embed="rId1"/>
          <a:stretch/>
        </p:blipFill>
        <p:spPr>
          <a:xfrm>
            <a:off x="5867280" y="4343400"/>
            <a:ext cx="20653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ed a tall plant with a shor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eration = Original pair of pl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8941" t="26727" r="69458" b="5468"/>
          <a:stretch/>
        </p:blipFill>
        <p:spPr>
          <a:xfrm>
            <a:off x="4648320" y="16765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all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1 = First set of    off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ildr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8941" t="28664" r="46758" b="5456"/>
          <a:stretch/>
        </p:blipFill>
        <p:spPr>
          <a:xfrm>
            <a:off x="3886200" y="182880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543800" y="4876920"/>
            <a:ext cx="304920" cy="304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ious about why none were sh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Crossed 2 plant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mated 2 sibl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34433" t="27129" r="42728" b="5043"/>
          <a:stretch/>
        </p:blipFill>
        <p:spPr>
          <a:xfrm>
            <a:off x="4800600" y="20574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75% T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%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2 = offspring of the F1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randchildr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34722" t="27129" r="4056" b="5043"/>
          <a:stretch/>
        </p:blipFill>
        <p:spPr>
          <a:xfrm>
            <a:off x="3276720" y="2133720"/>
            <a:ext cx="5638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 Explaining the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ele for “shortness” didn’t disapp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ele for “tallness” was domin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was the recessive allele able to be “recovered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 Explaining the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regation: Alleles separate from each other du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tes then combine differently du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724280" y="21337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7391520" y="21337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962520" y="3352680"/>
            <a:ext cx="914400" cy="838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486400" y="3352680"/>
            <a:ext cx="914400" cy="8384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8"/>
          <p:cNvSpPr/>
          <p:nvPr/>
        </p:nvSpPr>
        <p:spPr>
          <a:xfrm>
            <a:off x="8001000" y="3352680"/>
            <a:ext cx="914400" cy="8384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781680" y="3352680"/>
            <a:ext cx="914400" cy="838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3886200" y="5334120"/>
            <a:ext cx="914400" cy="838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5410080" y="5334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05720" y="5334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8001000" y="5334120"/>
            <a:ext cx="914400" cy="8380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769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5438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5627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858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114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55627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9343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8153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40384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815328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248520" y="2362320"/>
            <a:ext cx="533160" cy="380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5"/>
          <p:cNvSpPr/>
          <p:nvPr/>
        </p:nvSpPr>
        <p:spPr>
          <a:xfrm flipV="1">
            <a:off x="6248520" y="2362320"/>
            <a:ext cx="457200" cy="380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8"/>
          <p:cNvSpPr/>
          <p:nvPr/>
        </p:nvSpPr>
        <p:spPr>
          <a:xfrm flipH="1">
            <a:off x="4495680" y="2666880"/>
            <a:ext cx="533520" cy="9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5334120" y="2666880"/>
            <a:ext cx="457200" cy="9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H="1">
            <a:off x="7238520" y="2743200"/>
            <a:ext cx="381240" cy="8380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8001000" y="2743200"/>
            <a:ext cx="380880" cy="9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3"/>
          <p:cNvSpPr/>
          <p:nvPr/>
        </p:nvSpPr>
        <p:spPr>
          <a:xfrm flipH="1">
            <a:off x="4190760" y="3962520"/>
            <a:ext cx="152280" cy="16761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4"/>
          <p:cNvSpPr/>
          <p:nvPr/>
        </p:nvSpPr>
        <p:spPr>
          <a:xfrm flipH="1">
            <a:off x="4571640" y="3886200"/>
            <a:ext cx="2590920" cy="17524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4572000" y="3809880"/>
            <a:ext cx="1143000" cy="1752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6"/>
          <p:cNvSpPr/>
          <p:nvPr/>
        </p:nvSpPr>
        <p:spPr>
          <a:xfrm flipH="1">
            <a:off x="6019920" y="3886200"/>
            <a:ext cx="2286000" cy="1676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8"/>
          <p:cNvSpPr/>
          <p:nvPr/>
        </p:nvSpPr>
        <p:spPr>
          <a:xfrm>
            <a:off x="6019920" y="3809880"/>
            <a:ext cx="1218960" cy="1752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9"/>
          <p:cNvSpPr/>
          <p:nvPr/>
        </p:nvSpPr>
        <p:spPr>
          <a:xfrm flipH="1">
            <a:off x="6934320" y="3886200"/>
            <a:ext cx="304560" cy="1676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0"/>
          <p:cNvSpPr/>
          <p:nvPr/>
        </p:nvSpPr>
        <p:spPr>
          <a:xfrm>
            <a:off x="6248520" y="3809880"/>
            <a:ext cx="2057400" cy="1752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8458200" y="3962520"/>
            <a:ext cx="0" cy="15238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2 alleles for each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– Tall or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http://rds.yahoo.com/_ylt=A9gnMieakwVGgBEA0nejzbkF;_ylu=X3oDMTA4NDgyNWN0BHNlYwNwcm9m/SIG=12hqrkt4t/EXP=1174856986/**http%3A//www.louisxvimannequins.com/self_portrait/eyes_c_u_.jpg"/>
          <p:cNvPicPr/>
          <p:nvPr/>
        </p:nvPicPr>
        <p:blipFill>
          <a:blip r:embed="rId1"/>
          <a:srcRect l="43591" t="40395" r="34617" b="36547"/>
          <a:stretch/>
        </p:blipFill>
        <p:spPr>
          <a:xfrm>
            <a:off x="5791320" y="289548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Each one represented by the first letter of the dominant all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= Upp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ssive = Low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Tall (Domin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Short (Recess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http://rds.yahoo.com/_ylt=A9gnMiDgiQVG7kYAAEujzbkF;_ylu=X3oDMTA4NDgyNWN0BHNlYwNwcm9m/SIG=12url681d/EXP=1174854496/**http%3A//tell.fll.purdue.edu/JapanProj/FLClipart/Adjectives/tall%26short.gif"/>
          <p:cNvPicPr/>
          <p:nvPr/>
        </p:nvPicPr>
        <p:blipFill>
          <a:blip r:embed="rId1"/>
          <a:stretch/>
        </p:blipFill>
        <p:spPr>
          <a:xfrm>
            <a:off x="6095880" y="2666880"/>
            <a:ext cx="27655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If 2 of the SAME alle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 = T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t =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m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min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e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http://rds.yahoo.com/_ylt=A9gnMiC0lQVGmlYAyC6jzbkF;_ylu=X3oDMTA4NDgyNWN0BHNlYwNwcm9m/SIG=12lvrbsoj/EXP=1174857524/**http%3A//www.automatedbuildings.com/news/jan01/articles/alt/alt.jpg"/>
          <p:cNvPicPr/>
          <p:nvPr/>
        </p:nvPicPr>
        <p:blipFill>
          <a:blip r:embed="rId1"/>
          <a:srcRect l="23996" t="0" r="28011" b="0"/>
          <a:stretch/>
        </p:blipFill>
        <p:spPr>
          <a:xfrm>
            <a:off x="3048120" y="3048120"/>
            <a:ext cx="1371600" cy="358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rds.yahoo.com/_ylt=A9gnMiiElgVGCToAsG.jzbkF;_ylu=X3oDMTA4NDgyNWN0BHNlYwNwcm9m/SIG=137hcvfot/EXP=1174857732/**http%3A//www.rockingham.k12.va.us/sound_sorting/initial_diagraphs/sh/images/shack.jpg"/>
          <p:cNvPicPr/>
          <p:nvPr/>
        </p:nvPicPr>
        <p:blipFill>
          <a:blip r:embed="rId2"/>
          <a:srcRect l="8898" t="14608" r="15551" b="0"/>
          <a:stretch/>
        </p:blipFill>
        <p:spPr>
          <a:xfrm>
            <a:off x="6934320" y="4836960"/>
            <a:ext cx="1981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Genetics As A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s = Study of here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dity = How information gets transferred to us from our par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http://rds.yahoo.com/_ylt=A9gnMiUecQhGxCIBKAqjzbkF;_ylu=X3oDMTA4NDgyNWN0BHNlYwNwcm9m/SIG=12tvnd4f2/EXP=1175044766/**http%3A//www2.hmc.edu/www_common/biology/people/faculty/images/heredity.jpg"/>
          <p:cNvPicPr/>
          <p:nvPr/>
        </p:nvPicPr>
        <p:blipFill>
          <a:blip r:embed="rId1"/>
          <a:stretch/>
        </p:blipFill>
        <p:spPr>
          <a:xfrm>
            <a:off x="6095880" y="1905120"/>
            <a:ext cx="1981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If 2 DIFFERENT allel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TER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dominance: If dominant is present, it will “cover” the recessive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t = Tall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http://rds.yahoo.com/_ylt=A9gnMiM0lwVGi4QApHqjzbkF;_ylu=X3oDMTA4NDgyNWN0BHNlYwNwcm9m/SIG=11r0ofbf9/EXP=1174857908/**http%3A//bama.ua.edu/~dixon029/empire.jpg"/>
          <p:cNvPicPr/>
          <p:nvPr/>
        </p:nvPicPr>
        <p:blipFill>
          <a:blip r:embed="rId1"/>
          <a:stretch/>
        </p:blipFill>
        <p:spPr>
          <a:xfrm>
            <a:off x="5638680" y="4038480"/>
            <a:ext cx="2568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X. Looks Can Be Deceiv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hysical appearance (What’s on the outs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,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enetic makeup (What’s on the inside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, Rr, 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http://rds.yahoo.com/_ylt=A9gnMiE6mwVGqT4Bv0ajzbkF;_ylu=X3oDMTA4NDgyNWN0BHNlYwNwcm9m/SIG=12egik155/EXP=1174858938/**http%3A//www.adcsoft.com/userspictures/flowers.redlilies.jpg"/>
          <p:cNvPicPr/>
          <p:nvPr/>
        </p:nvPicPr>
        <p:blipFill>
          <a:blip r:embed="rId1"/>
          <a:srcRect l="14007" t="0" r="9687" b="17334"/>
          <a:stretch/>
        </p:blipFill>
        <p:spPr>
          <a:xfrm>
            <a:off x="5181480" y="320040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. Punnet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rams for predicting results of any cros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5410080" y="31240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6324480" y="31240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666880" y="495252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666880" y="57913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971800" y="3733920"/>
            <a:ext cx="41911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2971800" y="373392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2971800" y="3733920"/>
            <a:ext cx="4114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971800" y="373392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Single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oss for 1 tra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ir color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http://rds.yahoo.com/_ylt=A9iby4LQ0QZGmWABUBGjzbkF;_ylu=X3oDMTA4NDgyNWN0BHNlYwNwcm9m/SIG=120apkmgm/EXP=1174938448/**http%3A//www.kikkoimport.com/Colorful_wigs.jpg"/>
          <p:cNvPicPr/>
          <p:nvPr/>
        </p:nvPicPr>
        <p:blipFill>
          <a:blip r:embed="rId1"/>
          <a:stretch/>
        </p:blipFill>
        <p:spPr>
          <a:xfrm>
            <a:off x="2514600" y="3352680"/>
            <a:ext cx="35622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Single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 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t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2767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Single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All 4 combinations ar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ults vary depending on parents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2767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48006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7242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05720" y="5791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705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1 Cross: Cross 2 of the “kid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1:2:1 Genotypic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1 Phenotypic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           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3276720" y="45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48006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7242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6705720" y="5791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6705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: According to the Mendel’s Laws,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ohybr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oss of F1 will ALWAYS result in 3: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 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1:2: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 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… something else is ac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ternate types of 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rules of dominance/recessive don’t always hold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Incomple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i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lleles present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http://rds.yahoo.com/_ylt=A9gnMiMtkQlGUigBUDWjzbkF;_ylu=X3oDMTA4NDgyNWN0BHNlYwNwcm9m/SIG=130p8b0ho/EXP=1175118509/**http%3A//fig.cox.miami.edu/~cmallery/150/mendel/c14x9incomplete-dominance2.jpg"/>
          <p:cNvPicPr/>
          <p:nvPr/>
        </p:nvPicPr>
        <p:blipFill>
          <a:blip r:embed="rId1"/>
          <a:srcRect l="24607" t="0" r="8974" b="50043"/>
          <a:stretch/>
        </p:blipFill>
        <p:spPr>
          <a:xfrm>
            <a:off x="5334120" y="2590920"/>
            <a:ext cx="3649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Codomin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alleles present = Both 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wn &amp;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dominant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col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http://rds.yahoo.com/_ylt=A9gnMiQAkglGqXMBy1qjzbkF;_ylu=X3oDMTA4NDgyNWN0BHNlYwNwcm9m/SIG=126vpsncb/EXP=1175118720/**http%3A//www.biologycorner.com/resources/roancow.jpg"/>
          <p:cNvPicPr/>
          <p:nvPr/>
        </p:nvPicPr>
        <p:blipFill>
          <a:blip r:embed="rId1"/>
          <a:srcRect l="0" t="0" r="5402" b="8987"/>
          <a:stretch/>
        </p:blipFill>
        <p:spPr>
          <a:xfrm>
            <a:off x="3809880" y="3276720"/>
            <a:ext cx="4876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Genetics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t: Characteristic that is different among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ye color, height, skin co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rds.yahoo.com/_ylt=A9gnMiGh8wJG4VQAyXyjzbkF;_ylu=X3oDMTA4NDgyNWN0BHNlYwNwcm9m/SIG=12mdlh9u7/EXP=1174684961/**http%3A//health.iafrica.com/pics/health/eyecare/freshlook_colors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Multi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les for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http://rds.yahoo.com/_ylt=A9gnMiiwkglGRdQAFmWjzbkF;_ylu=X3oDMTA4NDgyNWN0BHNlYwNwcm9m/SIG=12kq9um16/EXP=1175118896/**http%3A//biotype.biology.dal.ca/steve/jwright/lecture1/2.25.65.jpg"/>
          <p:cNvPicPr/>
          <p:nvPr/>
        </p:nvPicPr>
        <p:blipFill>
          <a:blip r:embed="rId1"/>
          <a:srcRect l="0" t="23063" r="0" b="0"/>
          <a:stretch/>
        </p:blipFill>
        <p:spPr>
          <a:xfrm>
            <a:off x="4114800" y="198108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ethal Dominant Tra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oss will yiel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o of dominant to rec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D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v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does not count in the total off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2767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48006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7242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6705720" y="5791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6705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 Autosomes &amp; 2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Male: 46,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Female: 46,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SignMensRoom"/>
          <p:cNvPicPr/>
          <p:nvPr/>
        </p:nvPicPr>
        <p:blipFill>
          <a:blip r:embed="rId1"/>
          <a:srcRect l="0" t="0" r="0" b="23099"/>
          <a:stretch/>
        </p:blipFill>
        <p:spPr>
          <a:xfrm>
            <a:off x="167652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RA-100"/>
          <p:cNvPicPr/>
          <p:nvPr/>
        </p:nvPicPr>
        <p:blipFill>
          <a:blip r:embed="rId2"/>
          <a:stretch/>
        </p:blipFill>
        <p:spPr>
          <a:xfrm>
            <a:off x="5867280" y="4267080"/>
            <a:ext cx="1752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perm = X or Y        4. Egg = X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905120" y="3429000"/>
            <a:ext cx="4419360" cy="3200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2971800" y="3429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1905120" y="4267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1905120" y="5410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648320" y="3429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981080" y="57150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981080" y="45720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33526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029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2004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487692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3200400" y="5638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4876920" y="5638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505320" y="27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6629400" y="44956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 fe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-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on the sex chromosomes, X or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-linked traits = “maleness” m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linked traits = many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lorbl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-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=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X-linked traits will be expressed in 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1 X chromosome, so either YES or 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s =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it is dominant, it will be expressed if 1 copy is pre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it is recessive, it will be expressed if present on BOTH X chromos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 body: One of the X chromosomes in females “turns off” during early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females; Males need the X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aby ever born without a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I. Two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oss that looks at 2 trai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R = right handed  r = left ha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 = Dimples       d = no 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st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has brown hair, and brown hair is dominant. How can we tell the geno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cross: crossing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otype with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ozygous rece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r. will always have KNOWN gen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     kk      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st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omozygous domin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B x bb = ALL Bb (all brown 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eterozygo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b x bb = HALF Bb, Half bb (half brown, half blon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Genetics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: When 2 individuals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trees, 2 dogs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rds.yahoo.com/_ylt=A9gnMia99gJG_0kBnRujzbkF;_ylu=X3oDMTA4NDgyNWN0BHNlYwNwcm9m/SIG=12f6p5j25/EXP=1174685757/**http%3A//www.bredereck.net/wb/media/Red_cats_portrait_big.jpg"/>
          <p:cNvPicPr/>
          <p:nvPr/>
        </p:nvPicPr>
        <p:blipFill>
          <a:blip r:embed="rId1"/>
          <a:stretch/>
        </p:blipFill>
        <p:spPr>
          <a:xfrm>
            <a:off x="4876920" y="2895480"/>
            <a:ext cx="38322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2 =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 out the combinations for each parents’ game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1523880" y="4114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 flipH="1">
            <a:off x="2362320" y="3886200"/>
            <a:ext cx="3581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523880" y="4114800"/>
            <a:ext cx="2590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H="1">
            <a:off x="5105160" y="3886200"/>
            <a:ext cx="2514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3124080" y="411480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>
            <a:off x="5105520" y="3962520"/>
            <a:ext cx="8380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3276720" y="4038480"/>
            <a:ext cx="990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"/>
          <p:cNvSpPr/>
          <p:nvPr/>
        </p:nvSpPr>
        <p:spPr>
          <a:xfrm flipH="1">
            <a:off x="5181480" y="4038480"/>
            <a:ext cx="2362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mete combinations =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2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genotype, same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mete combinations =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rcRect l="0" t="27336" r="-3716" b="12669"/>
          <a:stretch/>
        </p:blipFill>
        <p:spPr>
          <a:xfrm>
            <a:off x="0" y="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ake a Punnett square: 16 possibiliti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37160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2362320" y="2057400"/>
            <a:ext cx="457200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2362320" y="2895480"/>
            <a:ext cx="4572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2362320" y="2895480"/>
            <a:ext cx="2286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2362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4648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362320" y="47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362320" y="3809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2362320" y="5638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1371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13716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13716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6"/>
          <p:cNvSpPr/>
          <p:nvPr/>
        </p:nvSpPr>
        <p:spPr>
          <a:xfrm flipV="1">
            <a:off x="3505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7"/>
          <p:cNvSpPr/>
          <p:nvPr/>
        </p:nvSpPr>
        <p:spPr>
          <a:xfrm flipV="1"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 flipV="1">
            <a:off x="5791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Parents’ possible game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37160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362320" y="2057400"/>
            <a:ext cx="457200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362320" y="2895480"/>
            <a:ext cx="4572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362320" y="2895480"/>
            <a:ext cx="2286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362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4648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2362320" y="47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2362320" y="3809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2362320" y="5638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 flipH="1">
            <a:off x="1371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 flipH="1">
            <a:off x="13716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 flipH="1">
            <a:off x="13716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 flipV="1">
            <a:off x="3505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 flipV="1"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1"/>
          <p:cNvSpPr/>
          <p:nvPr/>
        </p:nvSpPr>
        <p:spPr>
          <a:xfrm flipV="1">
            <a:off x="5791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286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4572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57913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121932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12193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121932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121932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Genetics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: Result of crossing individuals with different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http://rds.yahoo.com/_ylt=A9gnMiU9.AJG.KYA2iOjzbkF;_ylu=X3oDMTA4NDgyNWN0BHNlYwNwcm9m/SIG=1577ao1qr/EXP=1174686141/**http%3A//www.gotpetsonline.com/pictures-gallery/dog-pictures-breeders-puppies-rescue/beagle-pictures-breeders-puppies-rescue/pictures/beagle-0175.jpg"/>
          <p:cNvPicPr/>
          <p:nvPr/>
        </p:nvPicPr>
        <p:blipFill>
          <a:blip r:embed="rId1"/>
          <a:stretch/>
        </p:blipFill>
        <p:spPr>
          <a:xfrm>
            <a:off x="0" y="2362320"/>
            <a:ext cx="35053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rds.yahoo.com/_ylt=A9gnMiCD.AJGgWsBCoKjzbkF;_ylu=X3oDMTA4NDgyNWN0BHNlYwNwcm9m/SIG=12dmsfg5n/EXP=1174686211/**http%3A//www.dooziedog.com/dog_breeds/images/full/Pug-7.jpg"/>
          <p:cNvPicPr/>
          <p:nvPr/>
        </p:nvPicPr>
        <p:blipFill>
          <a:blip r:embed="rId2"/>
          <a:stretch/>
        </p:blipFill>
        <p:spPr>
          <a:xfrm>
            <a:off x="5638680" y="2286000"/>
            <a:ext cx="35053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rds.yahoo.com/_ylt=A9gnMiET.QJGtVsAWTKjzbkF;_ylu=X3oDMTA4NDgyNWN0BHNlYwNwcm9m/SIG=12en9lms6/EXP=1174686355/**http%3A//i26.photobucket.com/albums/c108/nauragee/Puggle.jpg"/>
          <p:cNvPicPr/>
          <p:nvPr/>
        </p:nvPicPr>
        <p:blipFill>
          <a:blip r:embed="rId3"/>
          <a:stretch/>
        </p:blipFill>
        <p:spPr>
          <a:xfrm>
            <a:off x="3200400" y="42670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Perform Cr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1600200" y="2971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16002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352680" y="3048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32767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1600200" y="4952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2"/>
          <p:cNvSpPr/>
          <p:nvPr/>
        </p:nvSpPr>
        <p:spPr>
          <a:xfrm>
            <a:off x="1523880" y="5867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3200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4"/>
          <p:cNvSpPr/>
          <p:nvPr/>
        </p:nvSpPr>
        <p:spPr>
          <a:xfrm>
            <a:off x="4952880" y="3048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49528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4952880" y="4876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33526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8"/>
          <p:cNvSpPr/>
          <p:nvPr/>
        </p:nvSpPr>
        <p:spPr>
          <a:xfrm>
            <a:off x="6705720" y="3048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9"/>
          <p:cNvSpPr/>
          <p:nvPr/>
        </p:nvSpPr>
        <p:spPr>
          <a:xfrm>
            <a:off x="66294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0"/>
          <p:cNvSpPr/>
          <p:nvPr/>
        </p:nvSpPr>
        <p:spPr>
          <a:xfrm>
            <a:off x="6629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1"/>
          <p:cNvSpPr/>
          <p:nvPr/>
        </p:nvSpPr>
        <p:spPr>
          <a:xfrm>
            <a:off x="50292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</a:t>
            </a:r>
            <a:r>
              <a:rPr b="1" lang="en-US" sz="3200" spc="-1" strike="noStrike">
                <a:solidFill>
                  <a:srgbClr val="33cccc"/>
                </a:solidFill>
                <a:latin typeface="Times New Roman"/>
              </a:rPr>
              <a:t>9 = right handed w/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32767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4952880" y="4876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33526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66294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6629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50292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3 = Right handed, no 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3352680" y="39625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4952880" y="4876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3352680" y="57913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6781680" y="3962520"/>
            <a:ext cx="12193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6629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50292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 </a:t>
            </a:r>
            <a:r>
              <a:rPr b="1" lang="en-US" sz="3200" spc="-1" strike="noStrike">
                <a:solidFill>
                  <a:srgbClr val="cc99ff"/>
                </a:solidFill>
                <a:latin typeface="Times New Roman"/>
              </a:rPr>
              <a:t>3 = Left handed w/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3352680" y="39625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502920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4"/>
          <p:cNvSpPr/>
          <p:nvPr/>
        </p:nvSpPr>
        <p:spPr>
          <a:xfrm>
            <a:off x="3352680" y="57913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6781680" y="3962520"/>
            <a:ext cx="12193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37"/>
          <p:cNvSpPr/>
          <p:nvPr/>
        </p:nvSpPr>
        <p:spPr>
          <a:xfrm>
            <a:off x="670572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8"/>
          <p:cNvSpPr/>
          <p:nvPr/>
        </p:nvSpPr>
        <p:spPr>
          <a:xfrm>
            <a:off x="5029200" y="5791320"/>
            <a:ext cx="121932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9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 </a:t>
            </a:r>
            <a:r>
              <a:rPr b="1" lang="en-US" sz="3200" spc="-1" strike="noStrike">
                <a:solidFill>
                  <a:srgbClr val="f9af55"/>
                </a:solidFill>
                <a:latin typeface="Times New Roman"/>
              </a:rPr>
              <a:t>1 = Left handed, no 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3352680" y="39625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502920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352680" y="57913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6781680" y="3962520"/>
            <a:ext cx="12193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670572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5029200" y="5791320"/>
            <a:ext cx="121932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6781680" y="5791320"/>
            <a:ext cx="1447920" cy="581400"/>
          </a:xfrm>
          <a:prstGeom prst="rect">
            <a:avLst/>
          </a:prstGeom>
          <a:solidFill>
            <a:srgbClr val="f9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obability of having a child with dimples and being left-ha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/16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 r 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Out of 16, 3 should be left handed and have di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 Independent Assor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New combo’s we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raits didn’t affect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Gene for right hand/left h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gene for dimples…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 Independent Assor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On different chromosom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genes can assort withou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fecting each other if they are o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henotypic Ratio is al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9:3:3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If not… something else is going on… Alternate type of dominance, sex linked trai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unnett squares can get too large if we look at more than 2 traits. Using rules of probability are much easi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ule of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ignaled by the word “A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what’s the probability I will have a bo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 will have blue ey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gor Mendel: Used pea plants to explore hered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rds.yahoo.com/_ylt=A9iby4RqHgNGuEQB2FmjzbkF;_ylu=X3oDMTA4NDgyNWN0BHNlYwNwcm9m/SIG=122iht37m/EXP=1174695914/**http%3A//www.saltshaker.net/wp-content/peas1.jpg"/>
          <p:cNvPicPr/>
          <p:nvPr/>
        </p:nvPicPr>
        <p:blipFill>
          <a:blip r:embed="rId1"/>
          <a:stretch/>
        </p:blipFill>
        <p:spPr>
          <a:xfrm>
            <a:off x="2590920" y="34290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ule of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 = XY     girl = XX     blue eyes = 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XX (mom)    x      GgXY (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one trait at a time, then multiply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eyes = gg… what’s the prob. Of gg? 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 = XY… what’s the prob of XY?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¼  x  ½ = 1/8 prob of boy w/ blue e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ule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ignaled by the word “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example: what’s the prob. Of getting a boy OR a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  x  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. of a girl = ½    prob of a boy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  +  ½   = 1  (10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Green ey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GG or 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 = ( ½ x ½) = 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 = ( ½ x ½ ) + ( ½ x ½ ) 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( ¼ )  + Gg ( ½ ) = 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Sh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be 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 = ( ½ ) x ( ½ )  = 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Frec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 Ff or FF (but looking at the parent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F will not be a possi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x ( ½ )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Green eyes =  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Short = 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Freckled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¾ x ¼ x ½ 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/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mis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ertain are you that your data are statistically signific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ll hypothe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significant difference between observed data and expect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hypothe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tistically significant difference between observed data and expect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 Chi squar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(o – e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e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observed #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expected #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is dominant to wrinkled in pea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oss produced 722 round seeds and 278 wrinkled see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data significant enough to verify the expected inheritance patter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 concluded 2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” determine what organisms will be like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s – determine tr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i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http://rds.yahoo.com/_ylt=A9gnMiEIAANGemEAXEGjzbkF;_ylu=X3oDMTA4NDgyNWN0BHNlYwNwcm9m/SIG=12r38ffcf/EXP=1174688136/**http%3A//www.made-in-china.com/showimages/111/400135185/0/Denim_Jeans.jpg"/>
          <p:cNvPicPr/>
          <p:nvPr/>
        </p:nvPicPr>
        <p:blipFill>
          <a:blip r:embed="rId1"/>
          <a:stretch/>
        </p:blipFill>
        <p:spPr>
          <a:xfrm>
            <a:off x="304920" y="50292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rds.yahoo.com/_ylt=A9ibyiFOzQZGBv0AtGejzbkF;_ylu=X3oDMTA4NDgyNWN0BHNlYwNwcm9m/SIG=12eau5805/EXP=1174937294/**http%3A//staff.jccc.net/pdecell/celldivision/chromosome1.gif"/>
          <p:cNvPicPr/>
          <p:nvPr/>
        </p:nvPicPr>
        <p:blipFill>
          <a:blip r:embed="rId2"/>
          <a:srcRect l="42102" t="8464" r="41097" b="11738"/>
          <a:stretch/>
        </p:blipFill>
        <p:spPr>
          <a:xfrm>
            <a:off x="7086600" y="3733920"/>
            <a:ext cx="1600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85800" y="1981080"/>
          <a:ext cx="7391520" cy="3048120"/>
        </p:xfrm>
        <a:graphic>
          <a:graphicData uri="http://schemas.openxmlformats.org/drawingml/2006/table">
            <a:tbl>
              <a:tblPr/>
              <a:tblGrid>
                <a:gridCol w="1231920"/>
                <a:gridCol w="1231920"/>
                <a:gridCol w="1231920"/>
                <a:gridCol w="1231920"/>
                <a:gridCol w="1231920"/>
                <a:gridCol w="1231920"/>
              </a:tblGrid>
              <a:tr h="101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# observed (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# expected 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 – 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 – e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 – e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/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b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Calculate Chi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Σ [(o – e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e]  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Determine degrees of freedom (d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# phenotypes minu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f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Find critical value at .05 p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80880" y="2819520"/>
          <a:ext cx="8229600" cy="3047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ility (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grees of Freedom (d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4: Use critical values to analyz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F Chi square value is &gt; or equal to critical value, the null hypothesi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eaning… the data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stically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F Chi square value is &lt; the critical value, the null hypothesi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Meaning… The data are statistically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oser Look at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ing over: Parts of a homologous chromosome cross to the other homologous chromos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2" descr="http://www.phschool.com/science/biology_place/labbench/lab3/images/crossovr.gif"/>
          <p:cNvPicPr/>
          <p:nvPr/>
        </p:nvPicPr>
        <p:blipFill>
          <a:blip r:embed="rId1"/>
          <a:stretch/>
        </p:blipFill>
        <p:spPr>
          <a:xfrm>
            <a:off x="4572000" y="175248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Recombination of genes that are on different chromosomes (Unlink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yRr (yellow, round)  x  yyrr  (green, wrinkl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 YyRr (yellow, round)  ¼ yyrr (green, wrink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 Yyrr (yellow, wrinkled) ¼ yyRr(green,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Parental Pheno.   ½ Recombinant Ph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Recombination of genes that are on different chromosomes (Unlink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% recombinant offspring is the EXPECTED value for unlinked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Recombination of genes that are on the same chromosome (Link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umber less than 50% means the genes must be on the same chromos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WER the number = the CLOSER the genes are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tion for calculating recombination Frequencies &amp; distance the genes are from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. R = # recombinants/ total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   Each “factor” can come in  different varie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lleles- varieties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Hair color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Brown all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londe all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d all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http://rds.yahoo.com/_ylt=A9gnMibdAgNGYFQBISqjzbkF;_ylu=X3oDMTA4NDgyNWN0BHNlYwNwcm9m/SIG=12ruovn85/EXP=1174688861/**http%3A//blog.seduhairstyles101.com/uploaded_images/hair_color-767250.jpg"/>
          <p:cNvPicPr/>
          <p:nvPr/>
        </p:nvPicPr>
        <p:blipFill>
          <a:blip r:embed="rId1"/>
          <a:stretch/>
        </p:blipFill>
        <p:spPr>
          <a:xfrm>
            <a:off x="5410080" y="3733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Traits &amp;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gree Charts: Diagram used to follow inheritance patterns of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21" descr="chart_pedigree_music2"/>
          <p:cNvPicPr/>
          <p:nvPr/>
        </p:nvPicPr>
        <p:blipFill>
          <a:blip r:embed="rId1"/>
          <a:srcRect l="5035" t="30308" r="63524" b="24252"/>
          <a:stretch/>
        </p:blipFill>
        <p:spPr>
          <a:xfrm>
            <a:off x="1447920" y="3276720"/>
            <a:ext cx="5562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 Fib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 Excess mucus in lungs, digestive problems, prone to infe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ffected: Northern European ance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12" descr="nr551844"/>
          <p:cNvPicPr/>
          <p:nvPr/>
        </p:nvPicPr>
        <p:blipFill>
          <a:blip r:embed="rId1"/>
          <a:srcRect l="0" t="0" r="35511" b="47783"/>
          <a:stretch/>
        </p:blipFill>
        <p:spPr>
          <a:xfrm>
            <a:off x="4648320" y="1143000"/>
            <a:ext cx="449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 Fib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of 3 bases = no phenylalan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protein malfunctions = mucus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: Nebulizer = Thins mucus in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" descr="CFTR-model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5181480" y="1143000"/>
            <a:ext cx="340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 Fib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: 1 in 2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: Tested before birth or 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ymptoms are notic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ickle Cel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: 1 in 400 African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aces affected but primarily African America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http://blog.lib.umn.edu/trite001/studyinghumananatomyandphysiology/sickle_cell_anemia2.jpg"/>
          <p:cNvPicPr/>
          <p:nvPr/>
        </p:nvPicPr>
        <p:blipFill>
          <a:blip r:embed="rId1"/>
          <a:stretch/>
        </p:blipFill>
        <p:spPr>
          <a:xfrm>
            <a:off x="5381640" y="0"/>
            <a:ext cx="3762360" cy="31240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ickle Cel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: Substitution on an incorrect amino acid in hemoglobin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 Blood cells are misshapen and clot irregul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s: Blood transfu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dis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chondr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 Dwarfism, shortened 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ffected: Uncertain; Studies sh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being affecte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5" descr="99308"/>
          <p:cNvPicPr/>
          <p:nvPr/>
        </p:nvPicPr>
        <p:blipFill>
          <a:blip r:embed="rId1"/>
          <a:stretch/>
        </p:blipFill>
        <p:spPr>
          <a:xfrm>
            <a:off x="6172200" y="380880"/>
            <a:ext cx="26892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dis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chondr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: FGFR3 gene = abnormal cartil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: Growth 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fgfr3"/>
          <p:cNvPicPr/>
          <p:nvPr/>
        </p:nvPicPr>
        <p:blipFill>
          <a:blip r:embed="rId1"/>
          <a:srcRect l="0" t="0" r="0" b="47901"/>
          <a:stretch/>
        </p:blipFill>
        <p:spPr>
          <a:xfrm>
            <a:off x="1752480" y="5334120"/>
            <a:ext cx="56232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dis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chondr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: Not known in USA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= 1 in 15,000- 40,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: Before birth, after bi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-Linked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Muscular Dystrophy: Weakening of muscles, loss of coordination. 1/3500 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emophilia: Poor blood clotting, smallest injuries can be fa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 concluded 2 t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lleles are “stronger”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http://rds.yahoo.com/_ylt=A9gnMiS1BANG6IMBYXCjzbkF;_ylu=X3oDMTA4NDgyNWN0BHNlYwNwcm9m/SIG=12q073bkn/EXP=1174689333/**http%3A//www.sanford-artedventures.com/Play/arch1/images/straw_house.jpg"/>
          <p:cNvPicPr/>
          <p:nvPr/>
        </p:nvPicPr>
        <p:blipFill>
          <a:blip r:embed="rId1"/>
          <a:stretch/>
        </p:blipFill>
        <p:spPr>
          <a:xfrm>
            <a:off x="990720" y="388620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rds.yahoo.com/_ylt=A9gnMiTuBANGbIYBRR2jzbkF;_ylu=X3oDMTA4NDgyNWN0BHNlYwNwcm9m/SIG=12dd2eqfq/EXP=1174689390/**http%3A//www.davidpride.com/Army/images/us_ft_knox03_sm.jpg"/>
          <p:cNvPicPr/>
          <p:nvPr/>
        </p:nvPicPr>
        <p:blipFill>
          <a:blip r:embed="rId2"/>
          <a:stretch/>
        </p:blipFill>
        <p:spPr>
          <a:xfrm>
            <a:off x="4952880" y="3886200"/>
            <a:ext cx="312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omosom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disjunction: Homologous chromosomes don’t separate during meios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rect number of chromos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5" descr="nondisjunction"/>
          <p:cNvPicPr/>
          <p:nvPr/>
        </p:nvPicPr>
        <p:blipFill>
          <a:blip r:embed="rId1"/>
          <a:stretch/>
        </p:blipFill>
        <p:spPr>
          <a:xfrm>
            <a:off x="6019920" y="2286000"/>
            <a:ext cx="28350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omosom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copies of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7" descr="karyotpe"/>
          <p:cNvPicPr/>
          <p:nvPr/>
        </p:nvPicPr>
        <p:blipFill>
          <a:blip r:embed="rId1"/>
          <a:stretch/>
        </p:blipFill>
        <p:spPr>
          <a:xfrm>
            <a:off x="3581280" y="2666880"/>
            <a:ext cx="48769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omosom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32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X chromosome = 45,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e,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X chromosome = 47, X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e,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Genetic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for all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par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nioce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   Newborn Scree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DNA_fingerprint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es on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ygenic Traits: Traits that are controlled by more than 1 g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y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n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6" descr="http://rds.yahoo.com/_ylt=A9gnMiXikwlGcK0A2T2jzbkF;_ylu=X3oDMTA4NDgyNWN0BHNlYwNwcm9m/SIG=122k6dgrh/EXP=1175119202/**http%3A//www.hypergurl.com/images/skincolors.jpg"/>
          <p:cNvPicPr/>
          <p:nvPr/>
        </p:nvPicPr>
        <p:blipFill>
          <a:blip r:embed="rId1"/>
          <a:stretch/>
        </p:blipFill>
        <p:spPr>
          <a:xfrm>
            <a:off x="4800600" y="2362320"/>
            <a:ext cx="3505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es on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Plant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Huma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6" descr="http://rds.yahoo.com/_ylt=A9gnMiHYlAlGIFMA1DajzbkF;_ylu=X3oDMTA4NDgyNWN0BHNlYwNwcm9m/SIG=121pveu6g/EXP=1175119448/**http%3A//www.greenzoo.net/images/110202rose.jpg"/>
          <p:cNvPicPr/>
          <p:nvPr/>
        </p:nvPicPr>
        <p:blipFill>
          <a:blip r:embed="rId1"/>
          <a:stretch/>
        </p:blipFill>
        <p:spPr>
          <a:xfrm>
            <a:off x="5715000" y="411480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http://rds.yahoo.com/_ylt=A9gnMiL3lAlGKBABCzSjzbkF;_ylu=X3oDMTA4NDgyNWN0BHNlYwNwcm9m/SIG=12bmeqf3t/EXP=1175119479/**http%3A//annflore.typepad.com/photos/fleurs/rose_aqua.jpg"/>
          <p:cNvPicPr/>
          <p:nvPr/>
        </p:nvPicPr>
        <p:blipFill>
          <a:blip r:embed="rId2"/>
          <a:stretch/>
        </p:blipFill>
        <p:spPr>
          <a:xfrm>
            <a:off x="5410080" y="1523880"/>
            <a:ext cx="29228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3T17:43:54Z</dcterms:created>
  <dc:creator>Joanne Hayes</dc:creator>
  <dc:description/>
  <dc:language>en-US</dc:language>
  <cp:lastModifiedBy>biochemchic21</cp:lastModifiedBy>
  <dcterms:modified xsi:type="dcterms:W3CDTF">2011-09-29T18:09:26Z</dcterms:modified>
  <cp:revision>41</cp:revision>
  <dc:subject/>
  <dc:title>Introduction to Genetics</dc:title>
</cp:coreProperties>
</file>